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E37-4888-49C8-81EE-7A9B2A61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EF7-570A-4720-8A9B-216F0F02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E409A-B62A-4BB1-A0A4-09D620D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2B516-CC13-473E-92BB-8EC01F71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016AF-6B10-40DA-86F2-4E262A2A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8CCF9-1B5E-40D5-9EA4-1D04263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B6222-03E9-4B5D-81EA-A965182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1A9A6-5D7E-4006-9D06-A94E4DF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FF17C-7D5B-48B0-9445-78D0B952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0B162-010D-4D57-BF63-C65D90D8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71B9C-CB38-4027-ADCF-215A4DC5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95204-AE25-489A-A949-035268F2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90A-9583-4D87-9CBF-56270851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386A0-104F-436C-82C3-58F5F636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F32C6-87E9-4907-9444-D2DA857D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37D4D-5DA7-46E9-B50C-C74AF1F6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C26D9-D120-4D5A-933B-3AF46552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1D64C-A5D2-4C78-B232-3EE2B625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412FD-4779-4F19-B445-B4E18C90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121F3-EBD3-471B-9EE3-1054DCB6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6E5DA-8506-4184-B973-C1D32C6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5110B-1E93-4EA0-9389-D559538B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7AD1A-BB3F-4B9E-9308-4CED8A39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63D-57E2-4C39-9CA3-1E3844A8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585BD-3403-4AEB-961F-33AA8144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B31C8-F136-4B5C-8590-3D426DCE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63234-F2A4-4B56-939A-27169E06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0EBAB-D176-40DA-8378-DDA4E61C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78FC5-B946-42BF-B913-A2696F99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B65DA-3AB9-46CF-B015-5BAFA9EF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47623-2A50-4B93-BFD3-A98BDBE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8FBB7-3927-4498-8021-67CA913B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23AFD-0D88-45DC-957A-D9A870D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85FF2-1416-4045-89BF-936A46E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B061-C400-432C-8E3D-6469C622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59282-40E5-4EFD-8150-AD5D4E7C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704CC-5878-4E12-99A2-5D8FAAA8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EF9DE-8739-4BBA-9AF4-65C6EFD8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F44CD-B7C0-421B-948B-2CAE7AC3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C5737-37B2-44C6-8200-90DE446E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471FE-EBB8-4FA1-BECF-55052588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0C3C2-BAB7-4432-955A-C89A597F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A2186-1F23-4380-AA42-49717A38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B7B8A-5FA7-41BD-B3B4-336D62A7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7FEDA-2561-4CDD-9EEA-C18237F2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381B-0555-478C-ADCE-93D4993C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44CD3-4700-4FD2-9BE2-5016358D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BF7B7-6874-4826-AD28-B7F07B5D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04575-E0E3-4F73-963F-3F62A348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D9D8B-6928-4905-8C0A-258B343B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FBA70-2D11-4A8C-BDFA-2C8A96FD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11B5C-EFF6-4178-B719-DBBF12A3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551D5-5775-4955-A3B8-8B4A0634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846CF-9EBB-4D42-8F7E-14AC0D86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038A5-6A9F-4FB1-A71A-8E664EB0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67F10-8589-4E13-8491-590C73D3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C8CD-7295-436A-A88E-2279FF93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2A879-6DF8-4684-A30C-92B634AE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9D9C9-9BDC-4910-B59F-ECA03764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FC323-34FF-48F2-80D9-D1F4D36C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99011-8D1C-43BA-A48C-059555FE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3BB97-342D-46FA-9CE3-86432A06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10B65-475A-4B9C-AD26-10DFCA21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C8C24-5F9B-4919-8DDB-81C438CB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6A426-5F02-434A-8575-53578CD1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90296-D421-41BA-8B28-2AF95E17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C812E-A5C4-4E5C-B3AD-3892428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A6DB-68DE-4778-BE50-0942E7B8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BC60B-EFC2-429B-A02D-0C655259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5BDAF-A0D8-49F8-9A78-B8CEE38A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47675-CE25-4D3B-B1F0-3BE2B955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EDE84-6CB8-43AB-8912-0C58F64C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8DF0D-0127-4C9F-8963-44923CB4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19A71-6564-4327-969D-52EAADEB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7D270-9AEF-4FB6-B9C5-2F11EC63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F070D-A9E5-4E67-9F6F-7BC32E95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BD200-26BF-435F-A2B2-8F18FD8A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2A1AC-5F7E-4E4B-8892-D67C2253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33FA-F344-4616-8DD1-26DBFD96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637335-12C8-4BB9-B137-CFA49D30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658DE-76B7-419D-A152-0C395357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F9453-AA66-4BD5-BD99-DDDC62F2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AF8FD5-C8C2-4805-ABFC-E5385E3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AC846-831F-456D-B4A0-8D70FB7E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7850B-890D-48D5-9C37-24FC8EF0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58587-CC0C-4DA9-8F51-A8923F8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286DA-09D1-4358-A847-088EB6C7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F29DC-808D-4A22-A4AB-3AA40914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7C4380-E82F-4A22-B826-48867D05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0783-35CD-49AC-AC3F-74C01FE5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FBA06-3496-48FF-8AB3-C093D73A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A2161-60CF-41DD-A678-EAA87399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001A9-A4E1-4340-BA08-B274392E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22C7E4-FAD2-417C-8B24-ECD217BC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51136-E33A-4DB4-9678-0FBC8AE1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30531-7208-4ADE-B826-152EAD55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19BD2-0801-41E5-98C2-F3C8FA6C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99C62-28EF-4356-9A18-02E6695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E93CA5-C6A3-4C02-9F1E-6152F72A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C7D747-ACBE-40C5-BC35-A576E0F3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4648-F3BE-4D15-A091-237AAD4F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3625C-99DD-4105-95B1-2768B81E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49AD1-E7C1-4D39-8533-B44671E4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DD4BF-40B0-40A4-81F6-634FD30F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0FEFE-F217-4999-9CE4-E22D58D4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AA2BE-1134-4A49-976F-DEE50203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116183-866B-4251-ABE2-971F40AE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6E5805-0861-4EDA-BAD8-86B7A0B0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4D755-1C76-44F4-95A2-AA5AB1F0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05BD6-92A6-4CDC-AB90-1E77EB78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8B2C5A-1AE0-4609-AD54-0ED93B36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F95-CB0E-43B4-86CD-712BCCEE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9757-8811-4874-99CB-28F67B3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73538-44E2-434A-B833-1A61B4BC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39AEA-DDF6-4904-ADD9-BA040B9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F42DF-9C46-4135-80D5-6EF9C9BB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712EF-0FF6-4F83-A377-40C89188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74B1EC-A3DD-4787-A5E3-3A032018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AC9CAB-069F-499F-B0CD-02BE7C74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528F5-6E89-49BE-91DD-1D100EFA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D8E3A-C4D8-4C94-9F14-DF892CCF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4F22C-314A-4F73-A9B4-3C9ED207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4D989-25A5-4E0A-B82C-BB3FC837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F0E8-77AA-4708-B5EA-64DD0865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0AE4B-C891-43B1-9D15-D0C85598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E50CD-4FE3-4C6C-9CE9-C66AE5B2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C16F1-0E1F-48A2-BA41-B3EC7AA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892C4-5362-4838-A69D-ADBBD93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6E72C-4DC7-4938-82C0-F76608B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7143D-8B79-4FFE-80F0-9382F58F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AD874-0A77-4FE2-9C20-D7F42A5F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1CCD0-CC74-49CA-A773-172063FA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E1716-5C02-41C0-87F1-0A0CB5E4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6E3DF6-75B8-420A-97C5-B62F643D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B6C9-8EFA-4B9B-8B0E-E3C12D6E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31670-4DC2-4755-BD95-BD175411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547F1-C230-45B8-808F-CD318527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1D33D9-6796-41C0-BC5B-76E6087E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CF3D1-2FFA-4BCC-B18B-6ADF8B0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7E61A3-0E6C-4B2D-92EC-AFCCDA5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6AD1A3-D40F-4AE7-941C-935ED8F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1F2A44-465F-472D-B39D-D2C4259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B305F-DCD4-48B7-8E9F-54B2CFCC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717536-6BB9-494C-80ED-B66ADFD0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D74110-BACE-4C61-A4F2-E7CF4A43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40D9-4BF7-40D7-AF5A-A53A3787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3C3A5-11FF-4782-A5F7-24C29663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0003C-46D4-455F-8732-6140709A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B5012-4311-4488-8F42-2A0837EF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29D08-3D6B-4793-8E6A-DC8F8AC6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D01499-3391-4995-B6B4-EADC808C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E2B120-C4CE-416E-AF75-C6C2243D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98C360-456E-4FC8-BB51-3D75D9F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05BF5-F71A-4070-A4B1-1B31F118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48BE2-C7E0-4BC7-B82B-94F66AA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A5DA4-D556-4C49-A355-5A942842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ED06-23EA-4C11-BB1F-DC9DA90A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F9828-3543-4C88-8CD4-1A3BA106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80814-A39C-422D-854C-B2001AF0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BF6C55-5618-4B93-9415-C5D7CA97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634383-5215-4DE7-A8CB-7FDEF5F6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7E4FD-EB56-4AB1-87E1-2C43A861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F3B353-1D82-4B83-948B-AD2389A2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CFCFB0-515B-49C3-8E61-509A1688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60088-ED1B-4EDC-A565-A610005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0AC91-A0F6-4EE0-B07D-FC0972ED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64BA9-4008-4818-AC4C-F4E7E53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B62E-ED05-41E7-8F7C-998C2990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A26E8-3FA1-4452-A178-800705D7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C85652-1596-4F6C-8E7C-EDDED24C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2A0E17-F7EF-413D-8B75-DF5680DE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2031-748C-4D9D-BD1A-95073312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FBCC-FC1A-4455-AC6A-734D9FA9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39EC-D1B1-4034-92FC-D15F0B04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08F44-DAFF-4FB2-A5B5-CDFAF0C1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C4E-578C-482F-A8F4-05507573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6DA0-F531-44E3-AF43-44894E32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DA0D-5F28-45AB-886C-8AAF8D1B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3CED-67DE-4C6B-B891-5294CBF1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0669D-D405-4707-A2D5-D3EAB0DA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3F148-8905-4B1D-923C-B75093D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FD66-FED3-478A-A489-57593C7B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DE322-BAD8-4CED-91CC-B0AEBDAE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4EF8-DDF4-46B8-A82F-5D6AD20D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0AD8E-35A1-4BEE-95E9-4EB3E3EF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30E8-AFE1-4BC2-91F7-CF52C455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110-C987-4714-AD01-2C9022BA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58D6-2240-4830-B366-F672A7E7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22E5F-69D2-46D8-A28B-630398E8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B8186-E89B-4B8A-9488-84FAF5E6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10F0-03D5-4FD5-8E82-1D8CBA3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660E-C49A-43EB-B95B-AA39191E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99790-C5BB-46AA-9351-3052D05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38329-29F0-4EA2-9183-6CDFCDE0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CE6A-CBC7-43B5-BC1D-8EF078CF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90F0-A52C-4261-A861-9462B722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D788C-E90B-4FF4-BA1D-FE5624F3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FA0-7F71-4D3E-B970-679718D1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D7DE6-43FA-491F-93A9-C47F5A0D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0B3AF-1E3F-4997-8E33-3710B3AF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6E0E-52A5-4500-87CB-AADC00F2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840C-BFB2-4C53-B65A-D3926D87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B57B-10CB-4908-865B-C3CB7DFA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1E7E2-438F-4EB2-9C04-B2ECFCC0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3731-AD81-4796-9534-758E3BC9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0FA8-5DE7-4CA2-8745-4EDAC9D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57777-E59D-40B3-9D51-DF50FA27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9332-FC27-4439-8C19-EA9E7D77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05D-D1FE-4093-9D5E-6990F2A0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23952-D487-4C36-8B9F-20DFCEF1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1E106-158D-4212-B379-488AED19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DA8D2-E97E-469A-B314-6D058FB8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29CB9-FD8B-4643-B27D-6A325CEE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B18E5-255C-4155-9153-95A5853C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7A165-DEDC-400A-AF1D-58A758F1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7B907-6AF5-4127-AD4A-4ED848CA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38F0C-822A-4AA7-90ED-32FFE759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BAD29-1C06-433C-9A22-4072DDA0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01B5-FD56-4A38-9EEB-27A6BD6B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E63-6C3F-4656-BE0F-F1F023AA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B401A-40FC-4F87-AED7-F88C8A61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B1F93-AAE2-45F4-A014-97DE0567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A7D1D-7923-41F2-9E53-7D959F21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8805-61D0-4990-A2B0-4B41EA79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FDCC-E610-4E5C-A75B-336A4280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E37E-5E42-4E34-BA38-B2EAF41E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F7A2-5CD7-4197-B8FA-671CDAFA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55FA7-11E6-494A-87BE-4E994489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297A5-EB85-4259-A3D0-63821855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F24F8-1740-4DF8-8060-D6D642C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494-8DA9-488E-8B54-428B853D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1F0CC-17DF-4848-8CDF-00B87BF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A79F6-732F-492F-8C8E-DD912670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91000-F9ED-4BB2-B4BC-183560FD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4B2F3-69AF-4C10-B832-B43C05E8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7D81B-DA35-4031-B630-6E9A3BB2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316B9-F9C4-4CAB-A870-D4B4AFBF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D064F-8CB8-47AD-8714-F25B61C2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41E26-1D17-4244-8D96-EAF586B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7D999-075A-48D2-9516-7BF860A3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8F82C-074F-4317-85B3-EFBC3BA3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50C-BDD1-4018-93F9-AF81193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076D5-89D5-457C-84C1-977B42CC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D2CD0-4AAD-498E-BFE8-B0951EFD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D5A7B-0AE2-410B-A54C-16DCA323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C8C24-74DE-4EFE-ABAD-981353EB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4D174-FC5F-48E0-8D34-3C887882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E4DE5-5318-4719-BEE3-08FDCD24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FEF55-32F1-4AEA-AE15-751A8CE1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B3F5C-7228-4E32-804D-CBAAC44F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FDCFD-9563-4E99-8729-ADEF1343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3C14C-CE28-4F8F-A8D6-17DB2DB1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66A0-8C89-4995-92AE-598BD89755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73F3-2ACA-4C52-AAF4-2A7858AA46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363-6CDF-4AB1-8F5D-A68351123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E8D-38F0-4D9D-A047-A83666882D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AEC-0DBF-458D-8586-ECBF72D385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3AD7-28E6-47B9-816A-40E65BD73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E8CB-9D86-4A3F-8675-856A3BFFE3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8FD1-B4A6-4345-9908-AE6BFC114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80AF-EEF3-47BF-AF45-EA78A32648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A95B-77C4-41AD-AB90-4BFFA2C69D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14EA-D018-401E-B26B-62B9DE717C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D21B-10DA-4813-B920-CBD3C15EF1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48A9-1F84-4FF6-9CA2-94BACB9FA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A276-6283-49E3-B2A8-4A1D866055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F1D4-13A9-46AC-AC18-041C669A18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6B1-ED89-4D27-8094-947D43E96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0EE5-D2E1-4EB3-BA3B-13B9F015D2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6D11-873C-4AF9-ACA1-F9A835F21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19BB-60C6-44D8-A2D5-226A52B830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2DA1-F89C-4671-8CCB-68442866E2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B70C-657A-45D3-B0F6-2943F214C4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2C55-D004-44D2-A8B0-80EC32761D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0D6C-E81A-4684-8703-808CDB9A4C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0D6D-6A70-4A28-8307-1AC75CB018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6038-2566-476F-846B-661AF72E65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ACB6-0F93-4FBE-9076-AF9C1CA79E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0B0F-406F-4DA6-BDBE-FC7F3201D1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E0DA-0582-4C92-A1EC-AF743D87C8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89F2-CB6E-46EF-A9B9-504A3A0B97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0AEB-F46C-4229-A37C-2371D9D9E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E720-631D-4DDC-9DD4-F2384D44EB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F62C-35F4-4610-8E07-54A859B2B9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C23F-08F6-4F53-A7D1-681BAF728B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9EF2-2BD1-43A1-89D3-E6CBAC8BFE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CAEA-82B8-4CEC-A215-A4CC7C0DF5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8205-15A3-418C-8E49-0AC03875DF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AA88-46FC-4117-B56B-EDCC60CCA7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880-9180-4EDF-ACDE-0CD8D5F8D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413E-EEB4-4B80-B5EC-77E9EF1667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E6C8-B851-47E6-9E1C-0BCAB59F8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19080" y="2938320"/>
            <a:ext cx="7305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69633" descr=""/>
          <p:cNvPicPr/>
          <p:nvPr/>
        </p:nvPicPr>
        <p:blipFill>
          <a:blip r:embed="rId1"/>
          <a:stretch/>
        </p:blipFill>
        <p:spPr>
          <a:xfrm>
            <a:off x="671400" y="1757520"/>
            <a:ext cx="7801200" cy="33429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777744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611280" y="386064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611280" y="4537080"/>
            <a:ext cx="77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24000" y="880920"/>
            <a:ext cx="8496000" cy="5096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08000" y="2565360"/>
            <a:ext cx="11512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564000" y="400536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867280" y="5502240"/>
            <a:ext cx="1150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295200" y="299880"/>
            <a:ext cx="8553600" cy="62582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1547640" y="5373720"/>
            <a:ext cx="734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642960" y="1390680"/>
            <a:ext cx="7858080" cy="4076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187280" y="4941720"/>
            <a:ext cx="50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7352" descr=""/>
          <p:cNvPicPr/>
          <p:nvPr/>
        </p:nvPicPr>
        <p:blipFill>
          <a:blip r:embed="rId1"/>
          <a:stretch/>
        </p:blipFill>
        <p:spPr>
          <a:xfrm>
            <a:off x="623880" y="1028880"/>
            <a:ext cx="7896240" cy="48006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1042920" y="4653000"/>
            <a:ext cx="7561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6324" descr=""/>
          <p:cNvPicPr/>
          <p:nvPr/>
        </p:nvPicPr>
        <p:blipFill>
          <a:blip r:embed="rId1"/>
          <a:stretch/>
        </p:blipFill>
        <p:spPr>
          <a:xfrm>
            <a:off x="309600" y="181080"/>
            <a:ext cx="85248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5300" descr=""/>
          <p:cNvPicPr/>
          <p:nvPr/>
        </p:nvPicPr>
        <p:blipFill>
          <a:blip r:embed="rId1"/>
          <a:stretch/>
        </p:blipFill>
        <p:spPr>
          <a:xfrm>
            <a:off x="604800" y="2795760"/>
            <a:ext cx="7934400" cy="1266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6659640" y="2852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443640" y="3529080"/>
            <a:ext cx="50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4276" descr=""/>
          <p:cNvPicPr/>
          <p:nvPr/>
        </p:nvPicPr>
        <p:blipFill>
          <a:blip r:embed="rId1"/>
          <a:stretch/>
        </p:blipFill>
        <p:spPr>
          <a:xfrm>
            <a:off x="685800" y="816120"/>
            <a:ext cx="7772400" cy="578160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4277" descr=""/>
          <p:cNvPicPr/>
          <p:nvPr/>
        </p:nvPicPr>
        <p:blipFill>
          <a:blip r:embed="rId2"/>
          <a:stretch/>
        </p:blipFill>
        <p:spPr>
          <a:xfrm>
            <a:off x="893880" y="2006640"/>
            <a:ext cx="76388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2231" descr=""/>
          <p:cNvPicPr/>
          <p:nvPr/>
        </p:nvPicPr>
        <p:blipFill>
          <a:blip r:embed="rId1"/>
          <a:stretch/>
        </p:blipFill>
        <p:spPr>
          <a:xfrm>
            <a:off x="281160" y="949320"/>
            <a:ext cx="8581680" cy="51436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427640" y="3270240"/>
            <a:ext cx="6490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020000" y="3903840"/>
            <a:ext cx="43164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6659640" y="4767120"/>
            <a:ext cx="43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7:0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